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23152"/>
        <c:axId val="58985440"/>
      </c:barChart>
      <c:catAx>
        <c:axId val="39623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85440"/>
        <c:crosses val="autoZero"/>
        <c:auto val="1"/>
        <c:lblAlgn val="ctr"/>
        <c:lblOffset val="100"/>
        <c:noMultiLvlLbl val="0"/>
      </c:catAx>
      <c:valAx>
        <c:axId val="58985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23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6FA-5439-4B4D-AFEB-C8A791C8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E27-A4E5-4A93-9B41-407E8DFE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05A-D840-4EBD-BCDD-737033E8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383-D7ED-4CD5-B99B-2E776769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039-77B1-454E-B790-AC58FDAA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890-2503-41FE-9D6D-DF9328DF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A55-CBD8-4CD8-A7A8-5A487AFC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D0A-C8D5-4607-A964-1913512D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B28-013C-493E-BC0E-EA62C631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841-9BE4-4C41-89CF-73DE7133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5E9-260C-4A43-9E2D-4EE20E5F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3A9-D28A-4B56-97D8-2F3AE2EA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8BC48-BCD2-475B-B646-4D5E394B9D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