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15280"/>
        <c:axId val="35881457"/>
      </c:barChart>
      <c:catAx>
        <c:axId val="58915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81457"/>
        <c:crosses val="autoZero"/>
        <c:auto val="1"/>
        <c:lblAlgn val="ctr"/>
        <c:lblOffset val="100"/>
        <c:noMultiLvlLbl val="0"/>
      </c:catAx>
      <c:valAx>
        <c:axId val="35881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15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625-7C16-4A25-98D3-8B581159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CE6-67CA-4D35-881B-71984436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437-9F9C-42D2-A814-000EB06A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5F5-867D-4E5D-8BD5-A52F346B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2F1-2481-47E4-94D4-C892C99D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248-AAD2-4845-B18F-E621567C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98E-7E51-4D01-AF64-858415C6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C5A-62F3-4EF7-81BC-FE459752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DD4-3AAB-4506-BB68-80B8E15A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8CD-5CB6-4D66-96BA-DCD7CE18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2F5-D954-41DF-85F4-8360D135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C13-3C81-4A89-A65D-2A26FC0F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D9327-4F19-44AF-B653-94C7A5CAFC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