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6542"/>
        <c:axId val="4953136"/>
      </c:barChart>
      <c:catAx>
        <c:axId val="5626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136"/>
        <c:crosses val="autoZero"/>
        <c:auto val="1"/>
        <c:lblAlgn val="ctr"/>
        <c:lblOffset val="100"/>
        <c:noMultiLvlLbl val="0"/>
      </c:catAx>
      <c:valAx>
        <c:axId val="4953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D0A-C5F4-42A5-A28A-129855BB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7E2-676C-4768-A83D-CD28592F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80C-518A-4338-A1A8-C948412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AD4-64DC-4161-A4FC-B101C822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847-12B7-49FF-A84D-23BC85F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D38-4D88-4006-BAAE-7F2A590D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1F8-549B-44E6-991C-CCA16BD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586-A891-4D7A-B645-BEEE821D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759-DBE9-48AF-A8D0-FDEF6ED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170-8DDC-4198-B118-1D63E94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48A-3C23-494E-9D34-3E586B0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98D-207F-4E6D-8903-D067180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D8100-AF1F-45F9-9221-4C50B9B34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