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47251"/>
        <c:axId val="2666299"/>
      </c:barChart>
      <c:catAx>
        <c:axId val="89547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299"/>
        <c:crosses val="autoZero"/>
        <c:auto val="1"/>
        <c:lblAlgn val="ctr"/>
        <c:lblOffset val="100"/>
        <c:noMultiLvlLbl val="0"/>
      </c:catAx>
      <c:valAx>
        <c:axId val="2666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7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4D7-7781-4FD2-8B53-A4A56B85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947-A604-475C-89CF-8AEFCFE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75B-9D66-456B-9DE3-7FF4DC3B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2B6-A009-4337-8043-2175BABA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E94-7AAE-418E-AD57-12E3B05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6F4-846E-46F1-B412-DF93E466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F90-F36A-4ABD-BBD1-E886F3D4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AA1-D724-453E-82E9-1C314C1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D4C-DD25-4150-BB1A-B2179BE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7A0-3B8D-4B20-A543-FB4C57A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456-05F2-49C8-B2ED-70EEE1D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5EB-0B30-4B01-8D2F-7949FD6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E1BDB-7A1D-44DD-B788-1A221E827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