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74546"/>
        <c:axId val="45285898"/>
      </c:barChart>
      <c:catAx>
        <c:axId val="13574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85898"/>
        <c:crosses val="autoZero"/>
        <c:auto val="1"/>
        <c:lblAlgn val="ctr"/>
        <c:lblOffset val="100"/>
        <c:noMultiLvlLbl val="0"/>
      </c:catAx>
      <c:valAx>
        <c:axId val="45285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4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0E5-F37D-46DE-B87B-8266ED5C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5A4-79DA-4191-815E-8B4490A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3ED-FC5D-4FAE-889F-49CA76E1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6FE-1908-4FCE-93A1-6BD43BC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B4-5AAA-4F07-9ACD-279E5BB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7CE-8AE6-4EEF-9F6B-034714D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EFE-8A13-4078-AB5E-E0719A0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D86-D19C-4BF4-903D-0A8287D2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2A7-DDF8-4DCA-AE1D-D230D6ED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70D-841E-442C-AB45-866029F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248-4DDE-4D40-B5F2-3AE73C9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688-4973-4093-910F-F46F599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7A93-3D2F-44B5-A622-A8F88DB13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