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58429"/>
        <c:axId val="24358311"/>
      </c:barChart>
      <c:catAx>
        <c:axId val="73958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58311"/>
        <c:crosses val="autoZero"/>
        <c:auto val="1"/>
        <c:lblAlgn val="ctr"/>
        <c:lblOffset val="100"/>
        <c:noMultiLvlLbl val="0"/>
      </c:catAx>
      <c:valAx>
        <c:axId val="24358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58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F5A-AB9A-476F-9A10-4D9AC40D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B72-4CF0-448E-838E-6BB1F72B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9D6-2A74-41D6-98A0-D7A254FF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AB8-099B-4321-94BB-919E69D6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72D-1900-44A3-9A4C-4A93516D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663-C2B8-4CCE-AD3A-565A64A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A23-D6AF-4C31-984C-87B27336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8F1-5976-4B05-AB41-2DD81F25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7D1-2D3D-47CB-BD29-92A8036A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4FC-71A0-4DA5-8A08-7BA4551F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7A5-88D3-4B62-B8D3-B3005C81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807-0F7E-423A-937D-C9CE819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A678F-0553-452E-B439-F5D05C116F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