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54519"/>
        <c:axId val="10525597"/>
      </c:barChart>
      <c:catAx>
        <c:axId val="49954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25597"/>
        <c:crosses val="autoZero"/>
        <c:auto val="1"/>
        <c:lblAlgn val="ctr"/>
        <c:lblOffset val="100"/>
        <c:noMultiLvlLbl val="0"/>
      </c:catAx>
      <c:valAx>
        <c:axId val="10525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54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2DA-D18D-4DBF-AA8C-0A53AB64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E1F-26C2-40ED-A264-29E226DC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383-F6F2-4042-ACC7-451F711E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B39-5E95-4195-86F9-7E7B6911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DFB-72F4-4589-867C-B1A7A0FF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608-A7D1-4257-8ED0-9D5F702E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B12-3DEF-4768-8613-4F391314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CEB-B190-47A4-B076-22505F46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B8B-4406-410B-ACA0-904B94D5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8F5-97FE-4E60-89EB-B692F9AF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492-57C6-4CC6-90EF-DB017EC3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A64-E2DB-4FFB-AD2A-D1C9D758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2836A-915A-43EB-A6F2-9E88D89C1F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