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922021"/>
        <c:axId val="20707915"/>
      </c:barChart>
      <c:catAx>
        <c:axId val="909220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07915"/>
        <c:crosses val="autoZero"/>
        <c:auto val="1"/>
        <c:lblAlgn val="ctr"/>
        <c:lblOffset val="100"/>
        <c:noMultiLvlLbl val="0"/>
      </c:catAx>
      <c:valAx>
        <c:axId val="20707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220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0158-A926-4CFD-8998-D9DACBAB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FBBD-DFAF-4413-BE63-33FCD6D2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55E-19B3-435E-94C1-DC923E84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007-EE63-4F9B-BF22-0461878E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5FF-FE2F-4515-ABAE-15D59DC6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65D7-BA1D-4130-81D6-D1546A2C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0EF-5728-4348-884E-22A2BEB9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325-0B8D-459D-AC90-E4D0C221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206-1956-480F-A1A1-C4A57E60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C2D3-6578-468A-AA3A-76FB6C80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1126-ADBF-409D-A598-34438C79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4AB-834A-47D6-B4D8-B549B2CD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ED912-DFC6-4670-BE6F-A09CD04C76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