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718591"/>
        <c:axId val="34532218"/>
      </c:barChart>
      <c:catAx>
        <c:axId val="45718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32218"/>
        <c:crosses val="autoZero"/>
        <c:auto val="1"/>
        <c:lblAlgn val="ctr"/>
        <c:lblOffset val="100"/>
        <c:noMultiLvlLbl val="0"/>
      </c:catAx>
      <c:valAx>
        <c:axId val="34532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18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221-86A3-4DC5-BFC5-0BF7A1A0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4E2-F587-48D4-8793-E1AB5F2F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409-EEB6-4CFA-B6B9-B9D78E1E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948-7E08-4090-80BB-23FCD1DB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076-8CBD-4BD3-AD02-20A0239E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B51-54C6-48D7-9B9F-2731DF65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9B4-C8CE-466B-B7C4-9A22CBD0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E3E-1CD7-4B48-93F7-FB258877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0C4-28BF-415E-AAF1-9354DC01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87E-A8F9-45B6-9E13-35C9957E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148-0FA3-44A5-9F1D-9894D2EE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13E-0662-4846-B5AF-D5CFE87E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E68D3-BCE8-4A7E-9751-58FB7E5702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