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63198"/>
        <c:axId val="66217837"/>
      </c:barChart>
      <c:catAx>
        <c:axId val="19363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17837"/>
        <c:crosses val="autoZero"/>
        <c:auto val="1"/>
        <c:lblAlgn val="ctr"/>
        <c:lblOffset val="100"/>
        <c:noMultiLvlLbl val="0"/>
      </c:catAx>
      <c:valAx>
        <c:axId val="66217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63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B5D-AB33-42B1-B787-6AA46202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51F-66E9-4A11-B254-944888F4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3F5-410A-42E0-8056-FE314E4A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DE5-EBA0-4008-88E4-2C1022E1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B88-DAFA-416B-8C00-0461D44A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541-044D-481E-B967-7533F069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A97-8455-4D54-AD4D-A0AF03AB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AD9-1B21-496E-9DC0-94DEE592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67C-8078-4B42-BA5F-1D9E12B9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EA0-58E9-480B-A215-4518A163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C94-9DA5-4BC5-9239-724B553E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EB8-82E3-4404-8E2C-3F8E9384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16B74-30B1-4A0A-A19B-D709519E85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