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470467"/>
        <c:axId val="2044263"/>
      </c:barChart>
      <c:catAx>
        <c:axId val="554704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4263"/>
        <c:crosses val="autoZero"/>
        <c:auto val="1"/>
        <c:lblAlgn val="ctr"/>
        <c:lblOffset val="100"/>
        <c:noMultiLvlLbl val="0"/>
      </c:catAx>
      <c:valAx>
        <c:axId val="20442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704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ABE1-562A-477C-9C9C-12B9AFFF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9A32-CAA7-43D9-B863-FE410112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41A2-37B4-4B41-B491-61DAAF2D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6856-FFCE-4F1C-ADBE-6586AEEE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04D3-9B3C-4F06-A0CC-C6C1CFED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F02D-12E7-4FD0-9205-98EA0E60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0FE2-6BF2-425E-BCF1-894F7448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A1F-E0AA-482E-BC81-0516228F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E49D-1A01-46FF-8F43-B7A1AB3C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7142-045C-434A-ADF8-2E957D85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0CA3-857E-4164-989B-541D6ADB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CF30-352E-412F-BD6E-A3907620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BA016-DEB1-43D9-B615-1E7D380218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