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7577"/>
        <c:axId val="17578710"/>
      </c:barChart>
      <c:catAx>
        <c:axId val="92227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78710"/>
        <c:crosses val="autoZero"/>
        <c:auto val="1"/>
        <c:lblAlgn val="ctr"/>
        <c:lblOffset val="100"/>
        <c:noMultiLvlLbl val="0"/>
      </c:catAx>
      <c:valAx>
        <c:axId val="17578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7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455-AA04-4625-A1FC-AF863876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C7E-8A56-409E-B78F-4159381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A46-7E35-42D3-8EA5-53570782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266-A446-414E-9798-91AD4255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66F-180F-4460-9EE4-B6ACC64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27B-3A92-4478-8BA7-F31ADBA3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860-693C-4FE7-8902-8E23994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85F-BB3F-40E7-BAE4-4E31F0C0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B19-9B7C-4168-8BDB-0744162E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ABA-F682-44B4-A549-67D67A6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A5A-8F38-46F0-833D-959418E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C00-6133-4F77-B530-778A4C5B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B6023-2C77-4BAC-B13B-A98EA5E5C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