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76876"/>
        <c:axId val="57479907"/>
      </c:barChart>
      <c:catAx>
        <c:axId val="95176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79907"/>
        <c:crosses val="autoZero"/>
        <c:auto val="1"/>
        <c:lblAlgn val="ctr"/>
        <c:lblOffset val="100"/>
        <c:noMultiLvlLbl val="0"/>
      </c:catAx>
      <c:valAx>
        <c:axId val="57479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6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51C-EF35-4DC9-B224-20649A67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327-8D85-4CE5-B0A1-3890BCF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5C9-CE4D-498A-84EB-63B0AE3E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D64-EC39-4065-8C60-260036CA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C22-2026-4BDC-849A-5A3C849C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758-6756-47AD-9FE3-CB75C7C0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3A2-6518-4150-B6FF-98E9E7E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76C-70BB-4977-A7E3-189FB67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C7F-61F5-4E75-8EC0-B9FBAF0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72-E597-493D-B08D-DBE5586C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5F8-94DD-4310-ADBB-6181549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825-FDA5-43AE-BE52-D59CC01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8D5DE-8094-4AEE-A1C3-EA531745D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