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1802"/>
        <c:axId val="13823984"/>
      </c:barChart>
      <c:catAx>
        <c:axId val="13561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23984"/>
        <c:crosses val="autoZero"/>
        <c:auto val="1"/>
        <c:lblAlgn val="ctr"/>
        <c:lblOffset val="100"/>
        <c:noMultiLvlLbl val="0"/>
      </c:catAx>
      <c:valAx>
        <c:axId val="13823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1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114-9BCD-465D-AAEF-DB8E13FE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FD3-B652-45E9-ACC7-3B900C6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A33-D47E-47AD-A876-A3DA0652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0AA-1C79-4699-A79A-CE7919D8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86A-9FDB-40C9-AA46-4997ED5B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748-3C43-473D-89F1-BA85426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97D-2517-4292-A9C7-0ACEC592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6C1-3796-439B-8EE0-80B556A9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BD9-11F3-4AEC-AEA7-05D8249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A2B-A1CB-4E18-A880-E3720E0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5F3-A81D-44E8-990E-71CD6051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4E4-1600-4837-B19D-0D5BE224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4EEC1-D63E-48C7-94C1-D91D53B537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