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19375"/>
        <c:axId val="26778893"/>
      </c:barChart>
      <c:catAx>
        <c:axId val="61819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78893"/>
        <c:crosses val="autoZero"/>
        <c:auto val="1"/>
        <c:lblAlgn val="ctr"/>
        <c:lblOffset val="100"/>
        <c:noMultiLvlLbl val="0"/>
      </c:catAx>
      <c:valAx>
        <c:axId val="26778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19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14A-E4C0-4DF6-8435-EEE1DB03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407-89CB-423C-8CFA-5AB70479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87E-F36E-4329-9DDD-E8D05388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06B-CF56-4EEF-B515-13816782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28B-377E-470F-A216-7A3AC12B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48E-C8E7-489F-9113-933DAE9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3B1-BC7A-4F08-AF8E-F005DEF9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568-87C9-4236-8CC5-A889FB0A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9AF-F58A-4E85-9310-83580FB4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B57-C6F7-4E86-8DF9-CDD9F80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7E7-86B1-46FC-9E33-33CE1F8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E15-A310-4295-9EBC-8E7F6AC8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542BB-CA68-49DF-80F1-9B90DC0783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