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06618"/>
        <c:axId val="7645868"/>
      </c:barChart>
      <c:catAx>
        <c:axId val="56406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5868"/>
        <c:crosses val="autoZero"/>
        <c:auto val="1"/>
        <c:lblAlgn val="ctr"/>
        <c:lblOffset val="100"/>
        <c:noMultiLvlLbl val="0"/>
      </c:catAx>
      <c:valAx>
        <c:axId val="7645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06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43D-98E7-4E7C-B217-5E54AEF2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0D5-7A6A-4872-88AB-8FC05C04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819-2B63-4D33-BC49-29AEC492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734-A17F-432C-85D7-141D7E89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1B3-9F6D-4EA8-9DD0-111A6BD1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504-63B5-447E-87D8-7BF5FD5F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032-2AF6-498C-BF7A-5A8A6048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91E-2B41-4C80-8EC9-A9C1A440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BEB-A1DA-4A67-AE83-E5D46722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F06-E3C7-4B00-B345-F9FCE376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C7C-6E78-4B82-B186-60F6E363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2BA-3CCC-4D18-8AE1-53DBF81C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BB9D2-2644-4438-B833-2F3CE77110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