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20828"/>
        <c:axId val="36428389"/>
      </c:barChart>
      <c:catAx>
        <c:axId val="74820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28389"/>
        <c:crosses val="autoZero"/>
        <c:auto val="1"/>
        <c:lblAlgn val="ctr"/>
        <c:lblOffset val="100"/>
        <c:noMultiLvlLbl val="0"/>
      </c:catAx>
      <c:valAx>
        <c:axId val="36428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20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4B7-B585-4327-AEFE-D11F6603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4B9-1F99-40AF-B06C-0B9098B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C03-7D3F-4598-96A9-E7ABFE01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72B-229E-4516-8E66-AAD0BA5C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E9E-2427-4A30-9AC1-F908690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BBE-51F3-48F7-A06A-967A0A68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2BF-79A9-4696-A639-88DE7529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FAD-D8F8-46C0-9B98-B9AE513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1DF-20AA-4D79-A929-22403E6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0F0-B974-45A9-802B-E0FB6492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AF4-6956-4411-A86B-686D2E2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A9E-94CC-47A6-9FD7-1969ACC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262BF-76FC-4B19-AF46-B92DE6EA1C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