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64387"/>
        <c:axId val="24744306"/>
      </c:barChart>
      <c:catAx>
        <c:axId val="62864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44306"/>
        <c:crosses val="autoZero"/>
        <c:auto val="1"/>
        <c:lblAlgn val="ctr"/>
        <c:lblOffset val="100"/>
        <c:noMultiLvlLbl val="0"/>
      </c:catAx>
      <c:valAx>
        <c:axId val="24744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64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2F9-BF04-47A1-894F-CE6BE12A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68E-4C0B-4C57-B06E-8885B725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9AD-9A8E-4FA4-88A6-F90B70DB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A87-D791-4011-A730-4CC9E7EE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755-9271-4BD2-A644-FE09D22F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1D9-0CB3-487B-A8ED-656DF0FB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D30-D37A-475A-B055-4692B89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894-3578-4B7D-9991-D6F9B668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E00-A544-4F35-A88D-3ED1DDA0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55A-6F9C-4408-B6E2-B9C8C5C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0A6-39D8-4C02-B17B-5D4BB460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9EA-2DE6-49EB-9B28-748A9455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0B625-069B-486F-AE5F-864EB5DB5D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